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9.png" ContentType="image/png"/>
  <Override PartName="/ppt/media/image12.png" ContentType="image/png"/>
  <Override PartName="/ppt/media/image13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F7C6-ADF2-40D4-B35D-D7B2258545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176A6-C716-42D7-83C6-11355AF5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712FD9-909B-479C-9A98-BD7CEDC5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BCF862-0DB1-4FAC-9059-22FE3D80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855040-8B31-41EF-9935-9DDCFE0C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91166F-01BE-44F2-9E8F-D9B77870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70033E-01E5-4D81-9709-856411B4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09D2C7-1133-4B8F-B1AB-6F06A42E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FF0DA8-6DE8-498D-AA90-74CA3BB4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E2B07D-003A-4CDC-9F6A-C73CB79C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5B9EB2-9F9A-4F66-A288-B4C3D3888E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A57B5-1B73-4153-BF14-45D117F381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0641F-CF52-4632-88BA-AC1E1A2E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767E5-8976-45FD-B112-8BADE64C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EF0BB-DD2B-4577-8B0A-24B9F79D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23C6F-4555-4CCF-8BCD-E32D1F97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F4AF4-26B0-4D3A-814D-DD93B82B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BCA07-916D-44D0-A8B5-1B87D9F9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8A22C-F476-4415-96A2-454FF1FC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E5E52-2C56-44F5-92BC-D53E7F16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BE592-102A-4009-ADB7-DBB903B7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FFD4E-0217-404D-BAFC-33890F47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E6BDF-FCEC-468C-AE35-64D4840D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3EDD3-9D96-4167-9A91-C995458EB8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6005F-19AC-4A16-81D3-AF7AF8FA13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7DD03B-DC45-4826-90E1-D7C8D048A8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6648CE-CDBF-4113-A868-149C0C58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A705AD-EF8A-42D3-B8DC-C05C1747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483B17-8072-4A54-B212-B1AC1B08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C08F81-A2D0-49B4-B4C8-05E5DF31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27BD09-9353-41A5-8DB3-885010EA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DF094C-5428-47EC-B74D-0B963418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799920-036C-4E2A-B0CA-04085A70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DA5DB2-A2A7-4E5D-B088-D5143AD3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DB2C7-B777-4394-9ABD-511F43F5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0CC5FD-652A-43DB-9D8B-B07F9FB3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15BF7E-1718-4A64-9877-A15BA1A7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A1E2CB-5881-4BF1-B1D9-0274D46567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45AEB-0B2B-4C85-95B9-5548C2FDDF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09C84-5F80-426E-A878-9F58806C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8EB458-F3F0-4F9D-92D0-593C9A72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CACC2-A48A-4849-BCC3-65A95D89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0F8C4-E8F3-42F2-9D13-A55F2B44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03553-5575-4990-9FC7-0C0F2C9E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21B27-6A60-446C-87CC-8534AFC6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7425C-7BE4-477A-8392-177A92E3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856323-7E84-44FB-805F-CF483496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3EA15-C3A6-40F3-8B59-31A81956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7310EA-9752-4675-8191-1D4FF9AD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6581E-DEC0-4B14-8598-5CF95007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C77D2-0250-4B79-A06D-17A849CD75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577D7-9454-4429-8094-2E1173C9FF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E884F-F556-4CDE-A3A1-1846525D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DB34C-CEA4-42DC-8B89-4F8C02DA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E4E9F-021E-4CC6-8F3E-18F92DE5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66642-477A-4E4F-8D75-4D696078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60620-3A80-4F18-AE3D-B5F7F070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B9868-6A82-4B6B-A806-9AF3299B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7B8EC-0646-46AB-A4BC-54AB953B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7F4F2-2717-4650-8171-FB6F572C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8CECA-A635-4E20-9B7F-7A1A8301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8BDF4-EDA2-406D-AADD-101B3BE1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888C0-3779-477F-9DDB-1D61F2A5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BCDB1-9C79-46DA-8679-17582E3744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1631D-1542-4B3A-9D90-4C56FDC3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5272C-4295-47B1-B3DA-28067E45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214B7-1EB6-4153-A309-6E3C89D9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C3726-C2EE-47A5-8D1F-3D305C3C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B5FBF-EA82-434F-A456-B34FA63C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D3911-8F8F-4E95-802F-944288BF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B5444-6F3D-4E87-B659-7EEA5688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2ABB3-7320-4025-A0A5-1CC5A328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DB978-E77B-4BF8-BCC7-6ABBDAFD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2483C-B7DC-4D67-9F8E-E2089117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5A0D3-75B5-4D79-AAEA-9E8C032E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CA2F7-D205-424A-AD16-70B3B6D0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7FE2C-DD0B-4771-966E-FFB48C51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2934E-52EC-4C46-B876-B0A0720B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EB765-E795-401B-8723-817FC8F6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CBCDA-2C1C-49B2-BA0A-101C2A3D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EB8E6-7AC0-4EB9-8DF1-F3AC2D7F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621D6-0B45-4AE8-B680-F7BD8F63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C7898-6C1A-4683-99AC-3155D70B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AC2A9-4CC5-4FBC-A435-DB5A91FB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B9E39-D9C8-48A5-8BAD-9F648E81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AA741-40D9-49E0-928F-82AC1F9D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99EE4-6714-4AD8-9ED9-6C1A83AD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8FD17-9771-4DDB-B20C-336773D0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87010-45B6-416F-A2E2-3F292171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7F6D3-E051-4EBF-8FD1-7AEA7DFE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4EE40-A37B-451C-9479-903E04EB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376C0-CA8F-465D-8F43-9914DBD9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1A798-EF93-4621-A5D1-90229AB2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2E03D-CCA3-452E-9334-AF99C86A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8895E-8867-4F37-B5B0-B4E93907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478F7-7188-4036-B92B-83F44313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CB75E-A412-47EF-9774-E8E03976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AB807-2AD5-4185-8875-AD2B1E37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974AE-9D61-4530-A073-26B4BBA5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0D987-5063-4BD6-8AB3-8C23651F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3932F-595E-4386-86F2-6450AB5E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B3E4F-633F-4F1D-865B-4672D350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A0A46-5D07-4AE7-9C0F-3043367F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E71F2-F990-4042-9B77-8D586B3A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BBE21-CF2E-48DC-870B-5992DBBA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63155-E884-46ED-8381-C12E7404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FFD6E-4B92-412C-934E-89205625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80277-2570-42FF-92C0-54402AD0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44209-272C-48F8-A627-C3E638DA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DBEBF-5C4F-4FC1-81DD-AB511FD5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D3D33-2D33-4B85-AABE-AB0CB65F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F9064-5E0D-4289-AC5E-E49DB839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2E1EA-98DF-4604-AA7C-4DEFAF20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4D6B5-1A01-4AAE-9942-215EDEBB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64C3B-27D2-4735-B2A0-2DBED852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53669-0453-47E4-8D67-485E2C7B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B8009E-659E-4C21-8877-BE77933C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B04C7-80C4-44EA-9F7D-202C5654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1A630A-A024-47CD-AD90-953A3957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06D5AF-2B47-4183-A7B2-3A35D2DC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C1FCF2-89CA-488C-B0D8-7576E8AB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9B09A8-0566-471A-8E5F-ECD451BB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8EC439-5B5E-487C-AF68-A5F1EE06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00D6C-FD97-4C27-B2EE-C879372E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2DF7E-9481-4C74-BCCC-B578CEE3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35C02-CAF6-43EF-84C2-ECDCF5D2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93B287-6EB1-4899-A608-290E66E0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426B1F-2BFA-4602-B11D-0222F63D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2AFECB-ABC9-4136-9686-FD60DE26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08DD2B-39A8-41EC-9446-969F99C4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5EF0AD-A452-4DE0-AB0C-6C89E9DC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7C102C-8A4F-4E23-AA2A-8FFF4F61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D71765-DF95-430B-8908-7A6BBFCE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34F712-C06A-4794-B3AF-78A95CF7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55DAB-0B9A-4059-B25D-57738169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D3049D-CF4C-48ED-B014-4A94FDE1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512664-696A-4549-B228-2BE705DD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D06439-798D-4E64-A397-F8F40F6F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9708F-77D2-4715-B219-3EFDBBFA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8EDB25-F089-46A8-826A-5569F665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AD7574-7921-452B-932E-6433F8E8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51F818-BEF3-4D46-A15B-C241A904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AC299E-8C82-407C-8ADD-87DF2190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057438-9758-4EC0-B30C-5BA57D29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421AAC-EF8E-4AED-9342-CA605C27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8DF5C-5F5E-4DC1-ADFA-A422A988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E7BB8-E7C6-4E73-9631-7551C761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8A2DCF-4C62-4918-B0DB-2C60831D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4BAD5D-52D9-4B14-8B49-59037FA4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2EB32E-A243-4165-8048-0F9273F6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8A1079-4EB3-46FA-B2EC-31AF8C45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F84457-1923-4E14-B120-8497B508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E334E0-DE4D-420E-B050-8783252E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096B57-0FB0-4C19-B5F9-79B73C32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939C1B-41ED-4A82-BA97-4BF3931C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3573DA-5C1A-4826-83BB-5D2A6E23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91162-8DEA-44CF-9B94-5E8B25B4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3C765C-0A8E-4106-B6A4-4D8B0556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C4A294-4CA4-4973-BAB1-340D58D8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0C318D-7350-4FE3-B2CA-228A04F9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00E630-2BAF-4744-BE25-4D58F9CD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99019C-8EF6-4C80-A966-40AF18AE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6BF18F-D1DE-47D5-89EB-8DD918B1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053A4D-6768-47B6-8FED-598AE6A9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C0836A-BC9B-400B-8FA5-0D2F8B10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4032B8-C3B4-4AD7-BBBA-4B05CF81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5ED060-6309-40D9-8D14-660EB4D2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FD6290-EA29-491C-8970-F3EACE35DE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FBDF4-F9DA-4679-8F45-781BD4C7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1A79EE-FE5F-4BBE-9E43-4B58DD1C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BE5756-00C9-4974-83F3-416536A5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635953-A826-4209-9D25-AE94B4BB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8EAA4F-5499-4941-8176-B682C4D3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B73EC8-84E7-4951-9B95-202FE01B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F01612-4BDD-4017-A1F9-40C8ACDC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5971C0-BCF5-4F8E-AF9E-CC96FFE8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998D79-3A58-4424-8A9B-908464E6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2BF15E-DE68-4946-BD54-C0CA321E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2D7A36-5AE5-4CDD-9231-2BE1D416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7C0DE4-62C9-40F5-8764-7F05C44B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91AB46-A25D-42EE-82F6-EEBF242F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1F88F0-FE51-4DCD-B42D-E777F7E5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706E39-95E3-4A55-9B61-6B691A62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F747A8-BAEE-44FE-B67D-E17E1150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958F48-16C8-4DFC-9025-E13AB566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2042B9-EFA3-4690-ABE9-DBBB703C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8354D8-C271-4687-B4FD-41ECCC6B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13E725-4AE3-4C59-8DEB-EEAB8A99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9FB85A-6A65-4514-AB34-3EC6DD15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24D389-E291-44F3-B14B-11E2E825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F95F38-8BF4-4154-8E82-D15A3021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53C070-D79D-4A18-980F-F9425455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5A7913-9429-4240-A0E5-9046095C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B30368-C375-404A-9C4E-F32BC962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FF2280-084C-40CD-A1FB-D95BBB1E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35D1F2-B1F6-4FB4-A047-D4E40169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7CCA70-02AE-440D-A022-0DC1C7A5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36B9BD-B4F6-4C44-A40B-96EBB806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E6C88C-ECC9-4655-A006-33321DBB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39E806-C2BB-435A-9FE4-503D878F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EDC11B-3413-40DB-A124-CAC01510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F8771B-C29F-4848-995E-A446F097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505A30-4457-4BC1-900A-19D5E902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6346F4-19E3-4F9E-A137-7F63078F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216CE6-C322-4C37-8992-FCDB0C85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60C27E-0383-49FB-888D-D7C7ACF4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440859-5477-4B98-BD32-013D15A1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F19BD9-FCF2-4608-8E31-F94084EC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A8B544-EE69-4958-8DC4-F9921B39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DC1B16-86F3-499E-BD8D-672F2632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56D020-DAA3-4AA7-B02A-43EFE196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B21A-871B-4CFE-91A9-4014B546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034608-EEE1-4C3B-91FE-F3B53932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843D67-F156-4739-86FF-7D026446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DB51AE-04B5-4801-AE7D-94D4BFE1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DB4AEA-A9BA-41A6-9E4A-8D30EC19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975FBD-2CD0-440E-B4A1-B7A39837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D40F85-C223-4698-9032-7464B3F2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5696F0-CE6E-4282-80CF-90D3021A10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84903-7727-410D-8ABA-DB1CC9CE63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FD457-7922-4493-818F-F46B010D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4DFFA-CA45-4B9B-BA46-10F80BF1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5147-A292-4489-A3D3-CFBCA052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EAB29-708D-47F0-A3B6-D3F9CFB0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38367-46BD-40F4-B9E8-36649E8D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3E84A-E38A-48B7-A4C4-72DFD8AA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72F02-F0E2-4A4B-B00A-CA5E2951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9FFDF-4EA9-4633-935B-9CE4F294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B1169-D37D-40CA-B20C-C4097D21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7C633-C448-436E-A2E1-4B1DF54E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CDE11-883A-467B-93DB-21C59A0C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E4067-935C-4754-9E3E-4A2D7D670C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614D34-3549-4EE2-8347-ED048087EF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B05E5-E42A-4A95-9567-7DBC75C6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6FE27E-C884-49C1-A3B1-BC739609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D20004-8A7B-4503-ABDE-6A182F10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01A5C6-4E2C-472C-A376-5E4BEB4F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3092D4-92EB-42A6-B67D-C6B99F25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7FE31-7CC2-43A9-AF53-594EA653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772081-AC84-4C31-A1B2-DFA57EB5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501B03-1ED5-4A7B-BCA2-D8C1B6A2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9E427-E8A9-4151-8097-524B5F06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959A5-87D2-4C37-B446-15E842F3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CE5408-094F-4101-8BC5-BA96F7D4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906E1-49E4-4395-ADC6-EBDA4B02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95DCD4-C40E-4449-93BA-78790A660F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9580B4-0470-4C73-902A-92F96539CF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A72D68-272B-42BD-BD10-251E41A7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0F3989-6872-4348-990D-F2ACCB3A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02C4C1-F239-4348-A702-940EB524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FB4B77-ED73-465D-B02D-F0F0F6D6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05A87F-DD5B-4BB1-AFBE-F5176305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97D753-5F2B-4930-AA71-FEADAC72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F2B664-E88D-46F7-B6BB-02262E13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48AB7B-21A8-448B-BFD4-E714E658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8C161-8983-4BC0-9337-D0296D11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53597B-F137-4172-BA03-A9463E8F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BFD14F-E2F4-4437-9A93-19FE1034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615D93-A77F-4958-8424-33DADBF38F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3AF2D-EF5A-463F-AEFB-FDFC7E9AE9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FF0B0-A7DE-4ACB-A8F3-9C7E173F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00EEF-7735-4AAD-8A27-04814A3D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7E934-C59E-4BF3-A322-55019BCB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8D982-2E04-4A75-BACE-E4F58AA8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07DC0-A7E2-4909-9168-C2E00BEB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0EA4E-9F2C-4E0B-A84C-11E56A4F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C5AC4-0493-4CFA-A6D5-BC2D7FFF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B4E7A-DF22-4320-95E4-AE84ED35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365BF-6F1B-4BE4-B5E2-98FE3043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DAC80-EE34-4C88-8BEC-53B891EA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71A28-5851-43FB-A98E-44912A62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80905-22E6-4331-8BE4-523649E32D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1E318-27FA-4F57-B189-4A0307F847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A7382-200B-4A90-A108-DFB045F7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770E1-D04A-46D6-BB8D-1766DDF2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E84FA8-FD9F-4065-B09F-AD17C0FE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E006A-D4E4-4751-B2D7-0954AAA5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B476-758C-47E9-BAB6-33C76F1A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792C03-2E97-4895-800D-58CD0E66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B4547F-656D-439D-B4DD-D56786E6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491D2-9CCA-42D7-8C61-619FB0C2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ABB47E-8F0C-40F8-91EA-3F3A91A6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6B668B-C3F5-4061-BEE7-5559AE34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AD5F79-D72A-4D9D-A661-B8C114B0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978064-DB29-4655-B82B-05C21425C4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FBEE01-61A1-416E-A4F9-7E738DDEA5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9B0554-699A-4F62-BC4A-1E162997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620348-51E1-4DCF-BA94-0F53C802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91FF-2E24-4B6C-B39B-801CEEF3013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6AA7-97BE-45AD-BD9F-1ECED1905E7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4E47-375E-406B-9587-E88446CA778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96DD-0A66-4B54-A0EE-653D0F3111A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C4D3-7ACD-4B4C-9B82-69282364158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5987-1158-41A2-A31B-C3B937CB71C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3256-5168-4260-9F9F-E77DC9A51A2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E699-29AD-4C79-A077-EDBD4C9AE5B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40F1-A0CC-4905-834A-7C19D3EBF05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9E2E-014B-4175-A76A-257185DF98D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8697-553A-408A-A23E-38C31ED8DBA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272A-E574-4D28-A3F6-6291F8E863C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B93D-7F02-4CF9-8BA6-ECA4DEA6022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88BC-A7B9-476D-89BA-F3583D461B0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EA9C-7162-4D08-BF4F-718E63116CE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2F75-1396-4D9F-B8E3-A7E6572A5F5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90C3-4E17-4D11-BD5E-BCFE41F7A75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DF59-A881-4233-8FD5-FCE23A28C80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22BD-B986-4015-8094-E3EE3704148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702B-A154-4DD3-A289-A9B2AC92B5F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7FE8-9FD4-4D1C-9F20-7E3294A19EF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9094-32B4-47BB-A3FA-3F4420E6605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B637-EA8A-4834-92AD-3CC4B24B2A6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51D1-EF8E-4931-812B-5016010BE09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003400" y="272736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38040" y="2655720"/>
            <a:ext cx="8445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认 识 锐 角 和 钝 角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384200" y="1744560"/>
            <a:ext cx="91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角的初步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"/>
          <p:cNvSpPr/>
          <p:nvPr/>
        </p:nvSpPr>
        <p:spPr>
          <a:xfrm>
            <a:off x="2419560" y="777960"/>
            <a:ext cx="80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用三角尺上的直角比一比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3" descr="D:\我的文档-桌面-收藏夹\桌面\s10444215.jpg"/>
          <p:cNvPicPr/>
          <p:nvPr/>
        </p:nvPicPr>
        <p:blipFill>
          <a:blip r:embed="rId1"/>
          <a:stretch/>
        </p:blipFill>
        <p:spPr>
          <a:xfrm>
            <a:off x="928800" y="1419120"/>
            <a:ext cx="996840" cy="147492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4" descr="D:\我的文档-桌面-收藏夹\桌面\图片1副本.jpg"/>
          <p:cNvPicPr/>
          <p:nvPr/>
        </p:nvPicPr>
        <p:blipFill>
          <a:blip r:embed="rId2"/>
          <a:stretch/>
        </p:blipFill>
        <p:spPr>
          <a:xfrm>
            <a:off x="3214800" y="1206360"/>
            <a:ext cx="1785960" cy="186696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5" descr=""/>
          <p:cNvPicPr/>
          <p:nvPr/>
        </p:nvPicPr>
        <p:blipFill>
          <a:blip r:embed="rId3"/>
          <a:stretch/>
        </p:blipFill>
        <p:spPr>
          <a:xfrm>
            <a:off x="4357800" y="2073240"/>
            <a:ext cx="500040" cy="797040"/>
          </a:xfrm>
          <a:prstGeom prst="rect">
            <a:avLst/>
          </a:prstGeom>
          <a:ln w="0">
            <a:noFill/>
          </a:ln>
        </p:spPr>
      </p:pic>
      <p:sp>
        <p:nvSpPr>
          <p:cNvPr id="1002" name="直接连接符 8"/>
          <p:cNvSpPr/>
          <p:nvPr/>
        </p:nvSpPr>
        <p:spPr>
          <a:xfrm>
            <a:off x="4357800" y="2287440"/>
            <a:ext cx="42840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等腰三角形 22"/>
          <p:cNvSpPr/>
          <p:nvPr/>
        </p:nvSpPr>
        <p:spPr>
          <a:xfrm flipV="1" rot="2011800">
            <a:off x="5504040" y="2037600"/>
            <a:ext cx="2954160" cy="784440"/>
          </a:xfrm>
          <a:prstGeom prst="triangle">
            <a:avLst>
              <a:gd name="adj" fmla="val 6064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Picture 5" descr=""/>
          <p:cNvPicPr/>
          <p:nvPr/>
        </p:nvPicPr>
        <p:blipFill>
          <a:blip r:embed="rId4"/>
          <a:stretch/>
        </p:blipFill>
        <p:spPr>
          <a:xfrm>
            <a:off x="7000920" y="2144880"/>
            <a:ext cx="492120" cy="785520"/>
          </a:xfrm>
          <a:prstGeom prst="rect">
            <a:avLst/>
          </a:prstGeom>
          <a:ln w="0">
            <a:noFill/>
          </a:ln>
        </p:spPr>
      </p:pic>
      <p:sp>
        <p:nvSpPr>
          <p:cNvPr id="1005" name="直接连接符 24"/>
          <p:cNvSpPr/>
          <p:nvPr/>
        </p:nvSpPr>
        <p:spPr>
          <a:xfrm>
            <a:off x="7000920" y="2930400"/>
            <a:ext cx="64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直接连接符 12"/>
          <p:cNvSpPr/>
          <p:nvPr/>
        </p:nvSpPr>
        <p:spPr>
          <a:xfrm>
            <a:off x="4143240" y="2870280"/>
            <a:ext cx="64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直接连接符 25"/>
          <p:cNvSpPr/>
          <p:nvPr/>
        </p:nvSpPr>
        <p:spPr>
          <a:xfrm>
            <a:off x="6643800" y="2359080"/>
            <a:ext cx="35712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Picture 5" descr=""/>
          <p:cNvPicPr/>
          <p:nvPr/>
        </p:nvPicPr>
        <p:blipFill>
          <a:blip r:embed="rId5"/>
          <a:stretch/>
        </p:blipFill>
        <p:spPr>
          <a:xfrm>
            <a:off x="928800" y="2131920"/>
            <a:ext cx="500040" cy="798480"/>
          </a:xfrm>
          <a:prstGeom prst="rect">
            <a:avLst/>
          </a:prstGeom>
          <a:ln w="0">
            <a:noFill/>
          </a:ln>
        </p:spPr>
      </p:pic>
      <p:sp>
        <p:nvSpPr>
          <p:cNvPr id="1009" name="直接连接符 28"/>
          <p:cNvSpPr/>
          <p:nvPr/>
        </p:nvSpPr>
        <p:spPr>
          <a:xfrm>
            <a:off x="928800" y="2919240"/>
            <a:ext cx="64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直接连接符 29"/>
          <p:cNvSpPr/>
          <p:nvPr/>
        </p:nvSpPr>
        <p:spPr>
          <a:xfrm>
            <a:off x="928800" y="2276640"/>
            <a:ext cx="0" cy="64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直接连接符 31"/>
          <p:cNvSpPr/>
          <p:nvPr/>
        </p:nvSpPr>
        <p:spPr>
          <a:xfrm>
            <a:off x="3928320" y="3013200"/>
            <a:ext cx="42876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直接连接符 32"/>
          <p:cNvSpPr/>
          <p:nvPr/>
        </p:nvSpPr>
        <p:spPr>
          <a:xfrm>
            <a:off x="7072200" y="3656160"/>
            <a:ext cx="64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直接连接符 33"/>
          <p:cNvSpPr/>
          <p:nvPr/>
        </p:nvSpPr>
        <p:spPr>
          <a:xfrm>
            <a:off x="3714840" y="3597120"/>
            <a:ext cx="64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直接连接符 34"/>
          <p:cNvSpPr/>
          <p:nvPr/>
        </p:nvSpPr>
        <p:spPr>
          <a:xfrm>
            <a:off x="6715080" y="3084480"/>
            <a:ext cx="35712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直接连接符 35"/>
          <p:cNvSpPr/>
          <p:nvPr/>
        </p:nvSpPr>
        <p:spPr>
          <a:xfrm>
            <a:off x="1071720" y="3645000"/>
            <a:ext cx="64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直接连接符 36"/>
          <p:cNvSpPr/>
          <p:nvPr/>
        </p:nvSpPr>
        <p:spPr>
          <a:xfrm>
            <a:off x="1071720" y="3002040"/>
            <a:ext cx="0" cy="64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37"/>
          <p:cNvSpPr/>
          <p:nvPr/>
        </p:nvSpPr>
        <p:spPr>
          <a:xfrm>
            <a:off x="1071720" y="3502080"/>
            <a:ext cx="142560" cy="14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矩形 38"/>
          <p:cNvSpPr/>
          <p:nvPr/>
        </p:nvSpPr>
        <p:spPr>
          <a:xfrm>
            <a:off x="1092240" y="371628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直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矩形 39"/>
          <p:cNvSpPr/>
          <p:nvPr/>
        </p:nvSpPr>
        <p:spPr>
          <a:xfrm>
            <a:off x="3357720" y="3639960"/>
            <a:ext cx="1714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锐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比直角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40"/>
          <p:cNvSpPr/>
          <p:nvPr/>
        </p:nvSpPr>
        <p:spPr>
          <a:xfrm>
            <a:off x="6715080" y="3711600"/>
            <a:ext cx="1714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钝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比直角大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组合 6"/>
          <p:cNvGrpSpPr/>
          <p:nvPr/>
        </p:nvGrpSpPr>
        <p:grpSpPr>
          <a:xfrm>
            <a:off x="5376960" y="5064120"/>
            <a:ext cx="3201840" cy="1009800"/>
            <a:chOff x="5376960" y="5064120"/>
            <a:chExt cx="3201840" cy="1009800"/>
          </a:xfrm>
        </p:grpSpPr>
        <p:sp>
          <p:nvSpPr>
            <p:cNvPr id="1022" name="AutoShape 27"/>
            <p:cNvSpPr/>
            <p:nvPr/>
          </p:nvSpPr>
          <p:spPr>
            <a:xfrm>
              <a:off x="5376960" y="5064120"/>
              <a:ext cx="2000160" cy="991080"/>
            </a:xfrm>
            <a:prstGeom prst="wedgeRoundRectCallout">
              <a:avLst>
                <a:gd name="adj1" fmla="val 58083"/>
                <a:gd name="adj2" fmla="val 35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这是一个钝角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3" name="Picture 4" descr="E:\2017秋上·黄倩\其他\人\蜜蜂.gif蜜蜂"/>
            <p:cNvPicPr/>
            <p:nvPr/>
          </p:nvPicPr>
          <p:blipFill>
            <a:blip r:embed="rId6"/>
            <a:stretch/>
          </p:blipFill>
          <p:spPr>
            <a:xfrm>
              <a:off x="7727400" y="5135400"/>
              <a:ext cx="851400" cy="93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4" name="组合 9"/>
          <p:cNvGrpSpPr/>
          <p:nvPr/>
        </p:nvGrpSpPr>
        <p:grpSpPr>
          <a:xfrm>
            <a:off x="536400" y="5149800"/>
            <a:ext cx="3678480" cy="995400"/>
            <a:chOff x="536400" y="5149800"/>
            <a:chExt cx="3678480" cy="995400"/>
          </a:xfrm>
        </p:grpSpPr>
        <p:sp>
          <p:nvSpPr>
            <p:cNvPr id="1025" name="AutoShape 27"/>
            <p:cNvSpPr/>
            <p:nvPr/>
          </p:nvSpPr>
          <p:spPr>
            <a:xfrm>
              <a:off x="1655640" y="5149800"/>
              <a:ext cx="2559240" cy="928800"/>
            </a:xfrm>
            <a:prstGeom prst="wedgeRoundRectCallout">
              <a:avLst>
                <a:gd name="adj1" fmla="val -57319"/>
                <a:gd name="adj2" fmla="val 42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每一个三角尺上都有两个锐角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6" name="Picture 2" descr="E:\2017秋上·黄倩\其他\人\海豚.jpg海豚"/>
            <p:cNvPicPr/>
            <p:nvPr/>
          </p:nvPicPr>
          <p:blipFill>
            <a:blip r:embed="rId7"/>
            <a:stretch/>
          </p:blipFill>
          <p:spPr>
            <a:xfrm>
              <a:off x="536400" y="5221440"/>
              <a:ext cx="793800" cy="9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7" name="弧形 47"/>
          <p:cNvSpPr/>
          <p:nvPr/>
        </p:nvSpPr>
        <p:spPr>
          <a:xfrm flipH="1" rot="20650800">
            <a:off x="626040" y="3443040"/>
            <a:ext cx="1357200" cy="2928960"/>
          </a:xfrm>
          <a:custGeom>
            <a:avLst/>
            <a:gdLst/>
            <a:ahLst/>
            <a:rect l="l" t="t" r="r" b="b"/>
            <a:pathLst>
              <a:path stroke="0" w="1357312" h="2928937">
                <a:moveTo>
                  <a:pt x="542688" y="29692"/>
                </a:moveTo>
                <a:cubicBezTo>
                  <a:pt x="586526" y="10140"/>
                  <a:pt x="632042" y="-1"/>
                  <a:pt x="678656" y="-1"/>
                </a:cubicBezTo>
                <a:cubicBezTo>
                  <a:pt x="1053467" y="-1"/>
                  <a:pt x="1357312" y="655664"/>
                  <a:pt x="1357312" y="1464467"/>
                </a:cubicBezTo>
                <a:cubicBezTo>
                  <a:pt x="1357312" y="1506800"/>
                  <a:pt x="1356480" y="1548713"/>
                  <a:pt x="1354864" y="1589734"/>
                </a:cubicBezTo>
                <a:lnTo>
                  <a:pt x="678656" y="1464468"/>
                </a:lnTo>
                <a:close/>
              </a:path>
              <a:path fill="none" w="1357312" h="2928937">
                <a:moveTo>
                  <a:pt x="542688" y="29692"/>
                </a:moveTo>
                <a:cubicBezTo>
                  <a:pt x="586526" y="10140"/>
                  <a:pt x="632042" y="-1"/>
                  <a:pt x="678656" y="-1"/>
                </a:cubicBezTo>
                <a:cubicBezTo>
                  <a:pt x="1053467" y="-1"/>
                  <a:pt x="1357312" y="655664"/>
                  <a:pt x="1357312" y="1464467"/>
                </a:cubicBezTo>
                <a:cubicBezTo>
                  <a:pt x="1357312" y="1506800"/>
                  <a:pt x="1356480" y="1548713"/>
                  <a:pt x="1354864" y="1589734"/>
                </a:cubicBezTo>
              </a:path>
            </a:pathLst>
          </a:custGeom>
          <a:noFill/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弧形 48"/>
          <p:cNvSpPr/>
          <p:nvPr/>
        </p:nvSpPr>
        <p:spPr>
          <a:xfrm flipH="1" rot="438000">
            <a:off x="5890680" y="3498480"/>
            <a:ext cx="1357560" cy="2928960"/>
          </a:xfrm>
          <a:custGeom>
            <a:avLst/>
            <a:gdLst/>
            <a:ahLst/>
            <a:rect l="l" t="t" r="r" b="b"/>
            <a:pathLst>
              <a:path stroke="0" w="1357312" h="2928937">
                <a:moveTo>
                  <a:pt x="542688" y="29692"/>
                </a:moveTo>
                <a:cubicBezTo>
                  <a:pt x="586526" y="10140"/>
                  <a:pt x="632042" y="-1"/>
                  <a:pt x="678656" y="-1"/>
                </a:cubicBezTo>
                <a:cubicBezTo>
                  <a:pt x="1053467" y="-1"/>
                  <a:pt x="1357312" y="655664"/>
                  <a:pt x="1357312" y="1464467"/>
                </a:cubicBezTo>
                <a:cubicBezTo>
                  <a:pt x="1357312" y="1506800"/>
                  <a:pt x="1356480" y="1548713"/>
                  <a:pt x="1354864" y="1589734"/>
                </a:cubicBezTo>
                <a:lnTo>
                  <a:pt x="678656" y="1464468"/>
                </a:lnTo>
                <a:close/>
              </a:path>
              <a:path fill="none" w="1357312" h="2928937">
                <a:moveTo>
                  <a:pt x="542688" y="29692"/>
                </a:moveTo>
                <a:cubicBezTo>
                  <a:pt x="586526" y="10140"/>
                  <a:pt x="632042" y="-1"/>
                  <a:pt x="678656" y="-1"/>
                </a:cubicBezTo>
                <a:cubicBezTo>
                  <a:pt x="1053467" y="-1"/>
                  <a:pt x="1357312" y="655664"/>
                  <a:pt x="1357312" y="1464467"/>
                </a:cubicBezTo>
                <a:cubicBezTo>
                  <a:pt x="1357312" y="1506800"/>
                  <a:pt x="1356480" y="1548713"/>
                  <a:pt x="1354864" y="1589734"/>
                </a:cubicBezTo>
              </a:path>
            </a:pathLst>
          </a:custGeom>
          <a:noFill/>
          <a:ln w="6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30" name="圆角矩形 4" descr=""/>
            <p:cNvPicPr/>
            <p:nvPr/>
          </p:nvPicPr>
          <p:blipFill>
            <a:blip r:embed="rId8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1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32" name="椭圆 5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3" name="椭圆 6" descr=""/>
              <p:cNvPicPr/>
              <p:nvPr/>
            </p:nvPicPr>
            <p:blipFill>
              <a:blip r:embed="rId9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4" name="椭圆 7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5" name="椭圆 3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6" name="圆角矩形 9" descr=""/>
              <p:cNvPicPr/>
              <p:nvPr/>
            </p:nvPicPr>
            <p:blipFill>
              <a:blip r:embed="rId11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10" descr=""/>
              <p:cNvPicPr/>
              <p:nvPr/>
            </p:nvPicPr>
            <p:blipFill>
              <a:blip r:embed="rId12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圆角矩形 11" descr=""/>
              <p:cNvPicPr/>
              <p:nvPr/>
            </p:nvPicPr>
            <p:blipFill>
              <a:blip r:embed="rId13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圆角矩形 13" descr=""/>
              <p:cNvPicPr/>
              <p:nvPr/>
            </p:nvPicPr>
            <p:blipFill>
              <a:blip r:embed="rId14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0" name="八边形 14"/>
          <p:cNvSpPr/>
          <p:nvPr/>
        </p:nvSpPr>
        <p:spPr>
          <a:xfrm>
            <a:off x="357120" y="70020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64"/>
          <p:cNvSpPr/>
          <p:nvPr/>
        </p:nvSpPr>
        <p:spPr>
          <a:xfrm>
            <a:off x="438120" y="57240"/>
            <a:ext cx="24638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一、新课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组合 2"/>
          <p:cNvGrpSpPr/>
          <p:nvPr/>
        </p:nvGrpSpPr>
        <p:grpSpPr>
          <a:xfrm>
            <a:off x="-77760" y="50760"/>
            <a:ext cx="3176640" cy="525600"/>
            <a:chOff x="-77760" y="50760"/>
            <a:chExt cx="3176640" cy="525600"/>
          </a:xfrm>
        </p:grpSpPr>
        <p:pic>
          <p:nvPicPr>
            <p:cNvPr id="1043" name="圆角矩形 14" descr=""/>
            <p:cNvPicPr/>
            <p:nvPr/>
          </p:nvPicPr>
          <p:blipFill>
            <a:blip r:embed="rId1"/>
            <a:stretch/>
          </p:blipFill>
          <p:spPr>
            <a:xfrm>
              <a:off x="69120" y="50760"/>
              <a:ext cx="30297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4" name="组合 4"/>
            <p:cNvGrpSpPr/>
            <p:nvPr/>
          </p:nvGrpSpPr>
          <p:grpSpPr>
            <a:xfrm>
              <a:off x="-77760" y="145800"/>
              <a:ext cx="420840" cy="273960"/>
              <a:chOff x="-77760" y="145800"/>
              <a:chExt cx="420840" cy="273960"/>
            </a:xfrm>
          </p:grpSpPr>
          <p:sp>
            <p:nvSpPr>
              <p:cNvPr id="1045" name="椭圆 15"/>
              <p:cNvSpPr/>
              <p:nvPr/>
            </p:nvSpPr>
            <p:spPr>
              <a:xfrm rot="16200000">
                <a:off x="163080" y="310680"/>
                <a:ext cx="9864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6" name="椭圆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2480" y="275400"/>
                <a:ext cx="210600" cy="11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7" name="椭圆 29"/>
              <p:cNvSpPr/>
              <p:nvPr/>
            </p:nvSpPr>
            <p:spPr>
              <a:xfrm rot="16200000">
                <a:off x="163080" y="184320"/>
                <a:ext cx="9864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32480" y="160560"/>
                <a:ext cx="210600" cy="11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77760" y="291960"/>
                <a:ext cx="34776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圆角矩形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-77760" y="263160"/>
                <a:ext cx="34776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圆角矩形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-77760" y="174240"/>
                <a:ext cx="34776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77760" y="145800"/>
                <a:ext cx="347760" cy="101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3" name="Rectangle 64"/>
          <p:cNvSpPr/>
          <p:nvPr/>
        </p:nvSpPr>
        <p:spPr>
          <a:xfrm>
            <a:off x="438120" y="57240"/>
            <a:ext cx="24638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3"/>
          <p:cNvSpPr/>
          <p:nvPr/>
        </p:nvSpPr>
        <p:spPr>
          <a:xfrm>
            <a:off x="219240" y="927000"/>
            <a:ext cx="6067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找一找周围物体的表面上有哪些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连一连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4"/>
          <p:cNvSpPr/>
          <p:nvPr/>
        </p:nvSpPr>
        <p:spPr>
          <a:xfrm>
            <a:off x="1428840" y="2141640"/>
            <a:ext cx="928440" cy="571320"/>
          </a:xfrm>
          <a:prstGeom prst="rect">
            <a:avLst/>
          </a:prstGeom>
          <a:solidFill>
            <a:srgbClr val="808080"/>
          </a:solidFill>
          <a:ln w="12600">
            <a:solidFill>
              <a:srgbClr val="9595b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钝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5"/>
          <p:cNvSpPr/>
          <p:nvPr/>
        </p:nvSpPr>
        <p:spPr>
          <a:xfrm>
            <a:off x="3714840" y="2141640"/>
            <a:ext cx="928440" cy="571320"/>
          </a:xfrm>
          <a:prstGeom prst="rect">
            <a:avLst/>
          </a:prstGeom>
          <a:solidFill>
            <a:srgbClr val="808080"/>
          </a:solidFill>
          <a:ln w="12600">
            <a:solidFill>
              <a:srgbClr val="9595b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锐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6"/>
          <p:cNvSpPr/>
          <p:nvPr/>
        </p:nvSpPr>
        <p:spPr>
          <a:xfrm>
            <a:off x="6000840" y="2141640"/>
            <a:ext cx="928440" cy="571320"/>
          </a:xfrm>
          <a:prstGeom prst="rect">
            <a:avLst/>
          </a:prstGeom>
          <a:solidFill>
            <a:srgbClr val="808080"/>
          </a:solidFill>
          <a:ln w="12600">
            <a:solidFill>
              <a:srgbClr val="9595b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直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直接连接符 7"/>
          <p:cNvSpPr/>
          <p:nvPr/>
        </p:nvSpPr>
        <p:spPr>
          <a:xfrm>
            <a:off x="571680" y="4570560"/>
            <a:ext cx="642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直接连接符 8"/>
          <p:cNvSpPr/>
          <p:nvPr/>
        </p:nvSpPr>
        <p:spPr>
          <a:xfrm>
            <a:off x="571680" y="3927600"/>
            <a:ext cx="0" cy="64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组合 11"/>
          <p:cNvGrpSpPr/>
          <p:nvPr/>
        </p:nvGrpSpPr>
        <p:grpSpPr>
          <a:xfrm>
            <a:off x="1945440" y="3890160"/>
            <a:ext cx="496080" cy="799560"/>
            <a:chOff x="1945440" y="3890160"/>
            <a:chExt cx="496080" cy="799560"/>
          </a:xfrm>
        </p:grpSpPr>
        <p:sp>
          <p:nvSpPr>
            <p:cNvPr id="1061" name="直接连接符 9"/>
            <p:cNvSpPr/>
            <p:nvPr/>
          </p:nvSpPr>
          <p:spPr>
            <a:xfrm flipV="1">
              <a:off x="2206080" y="3894480"/>
              <a:ext cx="235440" cy="79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直接连接符 10"/>
            <p:cNvSpPr/>
            <p:nvPr/>
          </p:nvSpPr>
          <p:spPr>
            <a:xfrm>
              <a:off x="1945440" y="3890160"/>
              <a:ext cx="243360" cy="78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16"/>
          <p:cNvGrpSpPr/>
          <p:nvPr/>
        </p:nvGrpSpPr>
        <p:grpSpPr>
          <a:xfrm>
            <a:off x="3223440" y="4106520"/>
            <a:ext cx="1118880" cy="511920"/>
            <a:chOff x="3223440" y="4106520"/>
            <a:chExt cx="1118880" cy="511920"/>
          </a:xfrm>
        </p:grpSpPr>
        <p:sp>
          <p:nvSpPr>
            <p:cNvPr id="1064" name="直接连接符 17"/>
            <p:cNvSpPr/>
            <p:nvPr/>
          </p:nvSpPr>
          <p:spPr>
            <a:xfrm flipV="1">
              <a:off x="3688200" y="4106880"/>
              <a:ext cx="654120" cy="51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直接连接符 18"/>
            <p:cNvSpPr/>
            <p:nvPr/>
          </p:nvSpPr>
          <p:spPr>
            <a:xfrm>
              <a:off x="3223440" y="4106520"/>
              <a:ext cx="468360" cy="50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组合 25"/>
          <p:cNvGrpSpPr/>
          <p:nvPr/>
        </p:nvGrpSpPr>
        <p:grpSpPr>
          <a:xfrm>
            <a:off x="4927680" y="4116960"/>
            <a:ext cx="1166400" cy="543960"/>
            <a:chOff x="4927680" y="4116960"/>
            <a:chExt cx="1166400" cy="543960"/>
          </a:xfrm>
        </p:grpSpPr>
        <p:sp>
          <p:nvSpPr>
            <p:cNvPr id="1067" name="直接连接符 26"/>
            <p:cNvSpPr/>
            <p:nvPr/>
          </p:nvSpPr>
          <p:spPr>
            <a:xfrm>
              <a:off x="5381280" y="4116960"/>
              <a:ext cx="712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直接连接符 27"/>
            <p:cNvSpPr/>
            <p:nvPr/>
          </p:nvSpPr>
          <p:spPr>
            <a:xfrm flipH="1">
              <a:off x="4927680" y="4120560"/>
              <a:ext cx="464040" cy="54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直接连接符 32"/>
          <p:cNvSpPr/>
          <p:nvPr/>
        </p:nvSpPr>
        <p:spPr>
          <a:xfrm>
            <a:off x="6735600" y="4680000"/>
            <a:ext cx="64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直接连接符 33"/>
          <p:cNvSpPr/>
          <p:nvPr/>
        </p:nvSpPr>
        <p:spPr>
          <a:xfrm flipH="1">
            <a:off x="6735240" y="4108320"/>
            <a:ext cx="35748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直接连接符 35"/>
          <p:cNvSpPr/>
          <p:nvPr/>
        </p:nvSpPr>
        <p:spPr>
          <a:xfrm>
            <a:off x="8224920" y="4659480"/>
            <a:ext cx="64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直接连接符 36"/>
          <p:cNvSpPr/>
          <p:nvPr/>
        </p:nvSpPr>
        <p:spPr>
          <a:xfrm>
            <a:off x="7950240" y="4108320"/>
            <a:ext cx="28584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直接连接符 40"/>
          <p:cNvSpPr/>
          <p:nvPr/>
        </p:nvSpPr>
        <p:spPr>
          <a:xfrm flipV="1">
            <a:off x="2286000" y="2855880"/>
            <a:ext cx="1785960" cy="928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直接连接符 43"/>
          <p:cNvSpPr/>
          <p:nvPr/>
        </p:nvSpPr>
        <p:spPr>
          <a:xfrm flipH="1" flipV="1">
            <a:off x="2339640" y="2637000"/>
            <a:ext cx="1460520" cy="1433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直接连接符 46"/>
          <p:cNvSpPr/>
          <p:nvPr/>
        </p:nvSpPr>
        <p:spPr>
          <a:xfrm flipH="1" flipV="1">
            <a:off x="4428720" y="2927160"/>
            <a:ext cx="25002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直接连接符 49"/>
          <p:cNvSpPr/>
          <p:nvPr/>
        </p:nvSpPr>
        <p:spPr>
          <a:xfrm flipH="1" flipV="1">
            <a:off x="1785600" y="2784600"/>
            <a:ext cx="3357720" cy="1285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直接连接符 51"/>
          <p:cNvSpPr/>
          <p:nvPr/>
        </p:nvSpPr>
        <p:spPr>
          <a:xfrm flipH="1" flipV="1">
            <a:off x="1857240" y="2784600"/>
            <a:ext cx="6072480" cy="1285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直接连接符 55"/>
          <p:cNvSpPr/>
          <p:nvPr/>
        </p:nvSpPr>
        <p:spPr>
          <a:xfrm flipV="1">
            <a:off x="1000080" y="2784600"/>
            <a:ext cx="5429160" cy="1071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61"/>
          <p:cNvSpPr/>
          <p:nvPr/>
        </p:nvSpPr>
        <p:spPr>
          <a:xfrm>
            <a:off x="214200" y="927000"/>
            <a:ext cx="6067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找一找周围物体的表面上有哪些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连一连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 txBox="1"/>
          <p:nvPr/>
        </p:nvSpPr>
        <p:spPr>
          <a:xfrm>
            <a:off x="457200" y="86004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在方格纸上画一个直角和一个钝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组合 2"/>
          <p:cNvGrpSpPr/>
          <p:nvPr/>
        </p:nvGrpSpPr>
        <p:grpSpPr>
          <a:xfrm>
            <a:off x="-77760" y="50760"/>
            <a:ext cx="3479760" cy="525600"/>
            <a:chOff x="-77760" y="50760"/>
            <a:chExt cx="3479760" cy="525600"/>
          </a:xfrm>
        </p:grpSpPr>
        <p:pic>
          <p:nvPicPr>
            <p:cNvPr id="1082" name="圆角矩形 14" descr=""/>
            <p:cNvPicPr/>
            <p:nvPr/>
          </p:nvPicPr>
          <p:blipFill>
            <a:blip r:embed="rId1"/>
            <a:stretch/>
          </p:blipFill>
          <p:spPr>
            <a:xfrm>
              <a:off x="85680" y="5076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3" name="组合 4"/>
            <p:cNvGrpSpPr/>
            <p:nvPr/>
          </p:nvGrpSpPr>
          <p:grpSpPr>
            <a:xfrm>
              <a:off x="-77760" y="145800"/>
              <a:ext cx="461880" cy="273960"/>
              <a:chOff x="-77760" y="145800"/>
              <a:chExt cx="461880" cy="273960"/>
            </a:xfrm>
          </p:grpSpPr>
          <p:sp>
            <p:nvSpPr>
              <p:cNvPr id="1084" name="椭圆 15"/>
              <p:cNvSpPr/>
              <p:nvPr/>
            </p:nvSpPr>
            <p:spPr>
              <a:xfrm rot="16200000">
                <a:off x="171000" y="3085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5" name="椭圆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400" y="26604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6" name="椭圆 29"/>
              <p:cNvSpPr/>
              <p:nvPr/>
            </p:nvSpPr>
            <p:spPr>
              <a:xfrm rot="16200000">
                <a:off x="171000" y="18000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400" y="15948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77760" y="2811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-77760" y="2545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-77760" y="1724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77760" y="14580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092" name=""/>
          <p:cNvGraphicFramePr/>
          <p:nvPr/>
        </p:nvGraphicFramePr>
        <p:xfrm>
          <a:off x="1657440" y="1660680"/>
          <a:ext cx="5288040" cy="2736720"/>
        </p:xfrm>
        <a:graphic>
          <a:graphicData uri="http://schemas.openxmlformats.org/drawingml/2006/table">
            <a:tbl>
              <a:tblPr/>
              <a:tblGrid>
                <a:gridCol w="755640"/>
                <a:gridCol w="755640"/>
                <a:gridCol w="752400"/>
                <a:gridCol w="757440"/>
                <a:gridCol w="755640"/>
                <a:gridCol w="753840"/>
                <a:gridCol w="757440"/>
              </a:tblGrid>
              <a:tr h="68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3" name="任意多边形 1"/>
          <p:cNvSpPr/>
          <p:nvPr/>
        </p:nvSpPr>
        <p:spPr>
          <a:xfrm>
            <a:off x="2414520" y="2343240"/>
            <a:ext cx="1508040" cy="1376280"/>
          </a:xfrm>
          <a:custGeom>
            <a:avLst/>
            <a:gdLst/>
            <a:ahLst/>
            <a:rect l="l" t="t" r="r" b="b"/>
            <a:pathLst>
              <a:path w="1507490" h="1376680">
                <a:moveTo>
                  <a:pt x="0" y="0"/>
                </a:moveTo>
                <a:lnTo>
                  <a:pt x="0" y="1376680"/>
                </a:lnTo>
                <a:lnTo>
                  <a:pt x="1507490" y="1376680"/>
                </a:ln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任意多边形 2"/>
          <p:cNvSpPr/>
          <p:nvPr/>
        </p:nvSpPr>
        <p:spPr>
          <a:xfrm>
            <a:off x="3930480" y="2349360"/>
            <a:ext cx="3015000" cy="1368720"/>
          </a:xfrm>
          <a:custGeom>
            <a:avLst/>
            <a:gdLst/>
            <a:ahLst/>
            <a:rect l="l" t="t" r="r" b="b"/>
            <a:pathLst>
              <a:path w="3014980" h="1368425">
                <a:moveTo>
                  <a:pt x="0" y="0"/>
                </a:moveTo>
                <a:lnTo>
                  <a:pt x="1499235" y="1368425"/>
                </a:lnTo>
                <a:lnTo>
                  <a:pt x="3014980" y="1368425"/>
                </a:ln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457200" y="86004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用三角板比比哪些角是锐角，哪些角是钝角，是锐角的画 △，是钝角的画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组合 2"/>
          <p:cNvGrpSpPr/>
          <p:nvPr/>
        </p:nvGrpSpPr>
        <p:grpSpPr>
          <a:xfrm>
            <a:off x="-77760" y="50760"/>
            <a:ext cx="3479760" cy="525600"/>
            <a:chOff x="-77760" y="50760"/>
            <a:chExt cx="3479760" cy="525600"/>
          </a:xfrm>
        </p:grpSpPr>
        <p:pic>
          <p:nvPicPr>
            <p:cNvPr id="1097" name="圆角矩形 14" descr=""/>
            <p:cNvPicPr/>
            <p:nvPr/>
          </p:nvPicPr>
          <p:blipFill>
            <a:blip r:embed="rId1"/>
            <a:stretch/>
          </p:blipFill>
          <p:spPr>
            <a:xfrm>
              <a:off x="85680" y="5076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8" name="组合 4"/>
            <p:cNvGrpSpPr/>
            <p:nvPr/>
          </p:nvGrpSpPr>
          <p:grpSpPr>
            <a:xfrm>
              <a:off x="-77760" y="145800"/>
              <a:ext cx="461880" cy="273960"/>
              <a:chOff x="-77760" y="145800"/>
              <a:chExt cx="461880" cy="273960"/>
            </a:xfrm>
          </p:grpSpPr>
          <p:sp>
            <p:nvSpPr>
              <p:cNvPr id="1099" name="椭圆 15"/>
              <p:cNvSpPr/>
              <p:nvPr/>
            </p:nvSpPr>
            <p:spPr>
              <a:xfrm rot="16200000">
                <a:off x="171000" y="3085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0" name="椭圆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400" y="26604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1" name="椭圆 29"/>
              <p:cNvSpPr/>
              <p:nvPr/>
            </p:nvSpPr>
            <p:spPr>
              <a:xfrm rot="16200000">
                <a:off x="171000" y="18000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400" y="15948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77760" y="2811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-77760" y="2545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-77760" y="1724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77760" y="14580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7" name="文本框 99"/>
          <p:cNvSpPr/>
          <p:nvPr/>
        </p:nvSpPr>
        <p:spPr>
          <a:xfrm>
            <a:off x="378000" y="4202280"/>
            <a:ext cx="74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）   （ ）   （ ）     （ ）    （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文本框 2"/>
          <p:cNvSpPr/>
          <p:nvPr/>
        </p:nvSpPr>
        <p:spPr>
          <a:xfrm>
            <a:off x="1127160" y="4264200"/>
            <a:ext cx="6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文本框 3"/>
          <p:cNvSpPr/>
          <p:nvPr/>
        </p:nvSpPr>
        <p:spPr>
          <a:xfrm>
            <a:off x="3968640" y="4264200"/>
            <a:ext cx="6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文本框 4"/>
          <p:cNvSpPr/>
          <p:nvPr/>
        </p:nvSpPr>
        <p:spPr>
          <a:xfrm>
            <a:off x="5767560" y="426420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任意多边形 6"/>
          <p:cNvSpPr/>
          <p:nvPr/>
        </p:nvSpPr>
        <p:spPr>
          <a:xfrm>
            <a:off x="1003320" y="2448000"/>
            <a:ext cx="770040" cy="803160"/>
          </a:xfrm>
          <a:custGeom>
            <a:avLst/>
            <a:gdLst/>
            <a:ahLst/>
            <a:rect l="l" t="t" r="r" b="b"/>
            <a:pathLst>
              <a:path w="770255" h="803275">
                <a:moveTo>
                  <a:pt x="441960" y="0"/>
                </a:moveTo>
                <a:lnTo>
                  <a:pt x="0" y="803275"/>
                </a:lnTo>
                <a:lnTo>
                  <a:pt x="770255" y="803275"/>
                </a:lnTo>
              </a:path>
            </a:pathLst>
          </a:custGeom>
          <a:noFill/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任意多边形 7" descr=""/>
          <p:cNvPicPr/>
          <p:nvPr/>
        </p:nvPicPr>
        <p:blipFill>
          <a:blip r:embed="rId8"/>
          <a:stretch/>
        </p:blipFill>
        <p:spPr>
          <a:xfrm>
            <a:off x="2397240" y="2465280"/>
            <a:ext cx="834840" cy="808200"/>
          </a:xfrm>
          <a:prstGeom prst="rect">
            <a:avLst/>
          </a:prstGeom>
          <a:ln w="0">
            <a:noFill/>
          </a:ln>
        </p:spPr>
      </p:pic>
      <p:sp>
        <p:nvSpPr>
          <p:cNvPr id="1113" name="任意多边形 8"/>
          <p:cNvSpPr/>
          <p:nvPr/>
        </p:nvSpPr>
        <p:spPr>
          <a:xfrm>
            <a:off x="3641760" y="2309760"/>
            <a:ext cx="793800" cy="1204920"/>
          </a:xfrm>
          <a:custGeom>
            <a:avLst/>
            <a:gdLst/>
            <a:ahLst/>
            <a:rect l="l" t="t" r="r" b="b"/>
            <a:pathLst>
              <a:path w="795020" h="1203960">
                <a:moveTo>
                  <a:pt x="0" y="0"/>
                </a:moveTo>
                <a:lnTo>
                  <a:pt x="795020" y="532130"/>
                </a:lnTo>
                <a:lnTo>
                  <a:pt x="188595" y="1203960"/>
                </a:lnTo>
              </a:path>
            </a:pathLst>
          </a:custGeom>
          <a:noFill/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任意多边形 10"/>
          <p:cNvSpPr/>
          <p:nvPr/>
        </p:nvSpPr>
        <p:spPr>
          <a:xfrm>
            <a:off x="5067360" y="2392200"/>
            <a:ext cx="1187280" cy="1016280"/>
          </a:xfrm>
          <a:custGeom>
            <a:avLst/>
            <a:gdLst/>
            <a:ahLst/>
            <a:rect l="l" t="t" r="r" b="b"/>
            <a:pathLst>
              <a:path w="1163320" h="1007745">
                <a:moveTo>
                  <a:pt x="0" y="1007745"/>
                </a:moveTo>
                <a:lnTo>
                  <a:pt x="351790" y="344170"/>
                </a:lnTo>
                <a:lnTo>
                  <a:pt x="1163320" y="0"/>
                </a:lnTo>
              </a:path>
            </a:pathLst>
          </a:custGeom>
          <a:noFill/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任意多边形 11"/>
          <p:cNvSpPr/>
          <p:nvPr/>
        </p:nvSpPr>
        <p:spPr>
          <a:xfrm>
            <a:off x="6622920" y="2422440"/>
            <a:ext cx="1025640" cy="1041480"/>
          </a:xfrm>
          <a:custGeom>
            <a:avLst/>
            <a:gdLst/>
            <a:ahLst/>
            <a:rect l="l" t="t" r="r" b="b"/>
            <a:pathLst>
              <a:path w="1024255" h="1040765">
                <a:moveTo>
                  <a:pt x="0" y="0"/>
                </a:moveTo>
                <a:lnTo>
                  <a:pt x="1024255" y="0"/>
                </a:lnTo>
                <a:lnTo>
                  <a:pt x="1024255" y="1040765"/>
                </a:lnTo>
              </a:path>
            </a:pathLst>
          </a:custGeom>
          <a:noFill/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 txBox="1"/>
          <p:nvPr/>
        </p:nvSpPr>
        <p:spPr>
          <a:xfrm>
            <a:off x="465120" y="84420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按要求画一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画一个小于直角的角。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画一个大于直角的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以同一边画两个钝角。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画两个不相等的锐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组合 2"/>
          <p:cNvGrpSpPr/>
          <p:nvPr/>
        </p:nvGrpSpPr>
        <p:grpSpPr>
          <a:xfrm>
            <a:off x="-77760" y="50760"/>
            <a:ext cx="3479760" cy="525600"/>
            <a:chOff x="-77760" y="50760"/>
            <a:chExt cx="3479760" cy="525600"/>
          </a:xfrm>
        </p:grpSpPr>
        <p:pic>
          <p:nvPicPr>
            <p:cNvPr id="1118" name="圆角矩形 14" descr=""/>
            <p:cNvPicPr/>
            <p:nvPr/>
          </p:nvPicPr>
          <p:blipFill>
            <a:blip r:embed="rId1"/>
            <a:stretch/>
          </p:blipFill>
          <p:spPr>
            <a:xfrm>
              <a:off x="85680" y="5076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9" name="组合 4"/>
            <p:cNvGrpSpPr/>
            <p:nvPr/>
          </p:nvGrpSpPr>
          <p:grpSpPr>
            <a:xfrm>
              <a:off x="-77760" y="145800"/>
              <a:ext cx="461880" cy="273960"/>
              <a:chOff x="-77760" y="145800"/>
              <a:chExt cx="461880" cy="273960"/>
            </a:xfrm>
          </p:grpSpPr>
          <p:sp>
            <p:nvSpPr>
              <p:cNvPr id="1120" name="椭圆 15"/>
              <p:cNvSpPr/>
              <p:nvPr/>
            </p:nvSpPr>
            <p:spPr>
              <a:xfrm rot="16200000">
                <a:off x="171000" y="3085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1" name="椭圆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400" y="26604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2" name="椭圆 29"/>
              <p:cNvSpPr/>
              <p:nvPr/>
            </p:nvSpPr>
            <p:spPr>
              <a:xfrm rot="16200000">
                <a:off x="171000" y="18000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400" y="15948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77760" y="2811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5" name="圆角矩形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-77760" y="2545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6" name="圆角矩形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-77760" y="1724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77760" y="14580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8" name="任意多边形 1"/>
          <p:cNvSpPr/>
          <p:nvPr/>
        </p:nvSpPr>
        <p:spPr>
          <a:xfrm>
            <a:off x="1800360" y="2236680"/>
            <a:ext cx="1006200" cy="941400"/>
          </a:xfrm>
          <a:custGeom>
            <a:avLst/>
            <a:gdLst/>
            <a:ahLst/>
            <a:rect l="l" t="t" r="r" b="b"/>
            <a:pathLst>
              <a:path w="974725" h="925830">
                <a:moveTo>
                  <a:pt x="974725" y="0"/>
                </a:moveTo>
                <a:lnTo>
                  <a:pt x="0" y="474980"/>
                </a:lnTo>
                <a:lnTo>
                  <a:pt x="974725" y="925830"/>
                </a:ln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任意多边形 2"/>
          <p:cNvSpPr/>
          <p:nvPr/>
        </p:nvSpPr>
        <p:spPr>
          <a:xfrm>
            <a:off x="5667480" y="2432160"/>
            <a:ext cx="1728720" cy="631800"/>
          </a:xfrm>
          <a:custGeom>
            <a:avLst/>
            <a:gdLst/>
            <a:ahLst/>
            <a:rect l="l" t="t" r="r" b="b"/>
            <a:pathLst>
              <a:path w="1729105" h="631190">
                <a:moveTo>
                  <a:pt x="0" y="0"/>
                </a:moveTo>
                <a:lnTo>
                  <a:pt x="688340" y="631190"/>
                </a:lnTo>
                <a:lnTo>
                  <a:pt x="1729105" y="631190"/>
                </a:ln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组合 9"/>
          <p:cNvGrpSpPr/>
          <p:nvPr/>
        </p:nvGrpSpPr>
        <p:grpSpPr>
          <a:xfrm>
            <a:off x="6026040" y="4113360"/>
            <a:ext cx="1333440" cy="1806480"/>
            <a:chOff x="6026040" y="4113360"/>
            <a:chExt cx="1333440" cy="1806480"/>
          </a:xfrm>
        </p:grpSpPr>
        <p:sp>
          <p:nvSpPr>
            <p:cNvPr id="1131" name="任意多边形 5"/>
            <p:cNvSpPr/>
            <p:nvPr/>
          </p:nvSpPr>
          <p:spPr>
            <a:xfrm>
              <a:off x="6026040" y="4113360"/>
              <a:ext cx="1333440" cy="465840"/>
            </a:xfrm>
            <a:custGeom>
              <a:avLst/>
              <a:gdLst/>
              <a:ahLst/>
              <a:rect l="l" t="t" r="r" b="b"/>
              <a:pathLst>
                <a:path w="974725" h="925830">
                  <a:moveTo>
                    <a:pt x="974725" y="0"/>
                  </a:moveTo>
                  <a:lnTo>
                    <a:pt x="0" y="474980"/>
                  </a:lnTo>
                  <a:lnTo>
                    <a:pt x="974725" y="92583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任意多边形 6"/>
            <p:cNvSpPr/>
            <p:nvPr/>
          </p:nvSpPr>
          <p:spPr>
            <a:xfrm>
              <a:off x="6152760" y="4742280"/>
              <a:ext cx="1087920" cy="1177560"/>
            </a:xfrm>
            <a:custGeom>
              <a:avLst/>
              <a:gdLst/>
              <a:ahLst/>
              <a:rect l="l" t="t" r="r" b="b"/>
              <a:pathLst>
                <a:path w="974725" h="925830">
                  <a:moveTo>
                    <a:pt x="974725" y="0"/>
                  </a:moveTo>
                  <a:lnTo>
                    <a:pt x="0" y="474980"/>
                  </a:lnTo>
                  <a:lnTo>
                    <a:pt x="974725" y="92583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组合 8"/>
          <p:cNvGrpSpPr/>
          <p:nvPr/>
        </p:nvGrpSpPr>
        <p:grpSpPr>
          <a:xfrm>
            <a:off x="1308240" y="4432320"/>
            <a:ext cx="1665000" cy="1299960"/>
            <a:chOff x="1308240" y="4432320"/>
            <a:chExt cx="1665000" cy="1299960"/>
          </a:xfrm>
        </p:grpSpPr>
        <p:sp>
          <p:nvSpPr>
            <p:cNvPr id="1134" name="直接连接符 4"/>
            <p:cNvSpPr/>
            <p:nvPr/>
          </p:nvSpPr>
          <p:spPr>
            <a:xfrm>
              <a:off x="1940400" y="5070600"/>
              <a:ext cx="1032840" cy="66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任意多边形 7"/>
            <p:cNvSpPr/>
            <p:nvPr/>
          </p:nvSpPr>
          <p:spPr>
            <a:xfrm>
              <a:off x="1308240" y="4432320"/>
              <a:ext cx="1622520" cy="646560"/>
            </a:xfrm>
            <a:custGeom>
              <a:avLst/>
              <a:gdLst/>
              <a:ahLst/>
              <a:rect l="l" t="t" r="r" b="b"/>
              <a:pathLst>
                <a:path w="1621790" h="647065">
                  <a:moveTo>
                    <a:pt x="0" y="647065"/>
                  </a:moveTo>
                  <a:lnTo>
                    <a:pt x="630555" y="647065"/>
                  </a:lnTo>
                  <a:lnTo>
                    <a:pt x="162179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08:22:00Z</dcterms:created>
  <dc:creator/>
  <dc:description/>
  <dc:language>en-US</dc:language>
  <cp:lastModifiedBy>万润仪器贸易公司</cp:lastModifiedBy>
  <dcterms:modified xsi:type="dcterms:W3CDTF">2020-08-21T00:42:50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